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901-0189-431F-9006-DF0CA900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BED-20F9-4C81-9C78-DD47FFEB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F8A-36E0-4285-BC8D-35D26493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C92-3998-48EE-B504-FC32EC31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62B-F68D-4735-846E-31A310CB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5B9-1EF6-44B8-92E4-EF703CD4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936-737E-490B-8543-251917B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75A-85DC-475D-965F-D806944E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C5F-013F-42D0-91D2-82682FF6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E8D-7062-40B0-8A30-2540156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9DA-2829-4958-9BCB-F99C31E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AD7-7612-43DB-A769-32155BB3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AC1-DFB4-4FA4-B4AB-8BF4BB29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 and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… How to create a research paper when you have a brain freez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no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+ Direction + 3 reasons/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rrent NFL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chang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use of instant replay, minor vs. major infractions, and  injury and career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organization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include your major and minor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include quotes (at least the first three words and a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ust include your thesis, but it will not include your introduction and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You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, read, highlight, and read som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evidence into 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primary source quotes into 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background of literature or concepts are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 #1 (topic sen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statements and thesis ti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  Main point #2 (topic sen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statements and thesis ti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 Main point #3 (topic sen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statements and thesis ti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 Concluding restatement of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l support should be introduced with your own words or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you may have more levels to your outline depending on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 will not be looking for complete sentences but will look for documented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Biggest Obst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valid and argumentative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evidence to support all aspects of your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focus and avoiding summary not relevant to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iness and procra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e that these are your topic op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n Birthday 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 like “Archetypes in Beowul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nd Infractions in the N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 like “Codes and Values in Sir Gaw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:  Brainstorm- List o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n Birthday 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swee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789200"/>
            <a:ext cx="6527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nd Infractions in the N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instant re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infractions vs. minor in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and history of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s regard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in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70866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at least three or four directions and point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down you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  A strong thes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a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s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s o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+ Direction + 3 reasons/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used in b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addictive nature, wide-spread use, and conven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3:17:18Z</dcterms:created>
  <dc:creator>Brandi Caldwell</dc:creator>
  <dc:description/>
  <dc:language>en-US</dc:language>
  <cp:lastModifiedBy>Brandi Caldwell</cp:lastModifiedBy>
  <dcterms:modified xsi:type="dcterms:W3CDTF">2007-01-22T06:09:18Z</dcterms:modified>
  <cp:revision>1</cp:revision>
  <dc:subject/>
  <dc:title>Thesis and Outline</dc:title>
</cp:coreProperties>
</file>